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6AD-CD18-4364-880F-B2D436F0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3C7-01FA-401B-885D-8A97381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D95-5A34-4049-ABA1-A38DDF5F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7DF-299B-46B8-A780-5C99336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F81-2BDE-4AA6-9A7A-33C1CD94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758-5073-45A2-9872-BCA5635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2D1-7144-47AE-B53F-ED5DB0C2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1FE-153B-4A6B-95AE-632DD94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6F9-59EE-4316-AADB-B8C6A9B3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C78-E064-4BC6-A2C6-3BF137E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F3E-359E-4056-A8A9-4CB26FA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6FC-47C9-46AC-B17F-9B5CA69F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0741-2EDD-4E5C-8883-D862DBB3E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Updates on dihadron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AB2-D583-4B8C-A4A0-05B765681F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Sing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52560" y="1371600"/>
            <a:ext cx="7581960" cy="546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76240" y="131436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CF5-C069-46E3-A529-DE0C2A5601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Doub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581960" cy="546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541-5963-4176-8C4B-5E0A6E4FA4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Doub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581960" cy="5467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1CD-CF92-4A83-B0B9-F589F2FE42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9F4-C9AE-4AF2-8DDD-8FC766B784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1238400"/>
            <a:ext cx="7248600" cy="539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3492360" cy="246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62720" y="2590920"/>
            <a:ext cx="3363840" cy="24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043-C2BD-427A-95F3-9A730F6366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35336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2F0-37EC-41F1-BEF4-1E55ACD703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52560" y="1219320"/>
            <a:ext cx="7343640" cy="537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0920" y="2362320"/>
            <a:ext cx="3483000" cy="244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62720" y="2341440"/>
            <a:ext cx="3436920" cy="24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4B0-B2F4-4FB6-B464-C068331115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ion about the 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4232160" cy="290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6920" y="3581280"/>
            <a:ext cx="4222800" cy="2887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82800" y="3352680"/>
            <a:ext cx="82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51160" y="335268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0.5,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28800" y="2286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4760" y="22860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6176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481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9080" y="2362320"/>
            <a:ext cx="334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040" y="2743200"/>
            <a:ext cx="961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2640" y="2286000"/>
            <a:ext cx="4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0" y="1981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376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61400" y="1752480"/>
            <a:ext cx="298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at’s the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ok like with a cons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rinsic kt uniform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tributed in the trans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6248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91400" y="655308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etermined by the magnitude of 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19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324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8320" y="13716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48769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45680" y="4800600"/>
            <a:ext cx="4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8120" y="47242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7242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8840" y="4267080"/>
            <a:ext cx="334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5627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486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29200" y="5562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57160" y="5943600"/>
            <a:ext cx="961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6800" y="5410080"/>
            <a:ext cx="104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=1.5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7440" y="5410080"/>
            <a:ext cx="4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8F1-A3C8-476A-BCDF-0985344C0E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ion about the 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4275000"/>
            <a:ext cx="3573360" cy="243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3602160" cy="2457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04920" y="1739880"/>
            <a:ext cx="3601800" cy="2451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752480"/>
            <a:ext cx="2971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ive a distribution to the intrinsic 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rrelation limit, p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constraint added.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Single Ga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 constraint on the p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ouble Ga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362320"/>
            <a:ext cx="1371600" cy="30456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37339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49440" y="2286000"/>
            <a:ext cx="1285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91760" y="4800600"/>
            <a:ext cx="961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776-1792-4C89-8A8D-E155A80AC1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ion about the 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25680" y="4567320"/>
            <a:ext cx="2786040" cy="1884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476440" y="2446200"/>
            <a:ext cx="2781360" cy="190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759280" y="4567320"/>
            <a:ext cx="2775240" cy="1909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15000" y="2451240"/>
            <a:ext cx="2786040" cy="1898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57800" y="3589200"/>
            <a:ext cx="415800" cy="339840"/>
          </a:xfrm>
          <a:prstGeom prst="rightArrow">
            <a:avLst>
              <a:gd name="adj1" fmla="val 50000"/>
              <a:gd name="adj2" fmla="val 305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5634000"/>
            <a:ext cx="415800" cy="339840"/>
          </a:xfrm>
          <a:prstGeom prst="rightArrow">
            <a:avLst>
              <a:gd name="adj1" fmla="val 50000"/>
              <a:gd name="adj2" fmla="val 305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295280"/>
            <a:ext cx="217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 the correlation li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rrelation is quite sensitive to the intrinsic k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32767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auss 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05120" y="51195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niform 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373-8CFF-493A-B866-C7D7C0179F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ulti-binning studies in a wide kinematics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wo particle toy model to study the effect of intrinsic k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pared with two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the realistic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671-3A03-47CB-9DEF-3F6F35268F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way side width in C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0" r="0" b="48021"/>
          <a:stretch/>
        </p:blipFill>
        <p:spPr>
          <a:xfrm>
            <a:off x="200160" y="1371600"/>
            <a:ext cx="8638920" cy="2743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00400" y="23623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74320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429000"/>
            <a:ext cx="114300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738680"/>
            <a:ext cx="762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th an intrinsic kt, can we study the away-side width depend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20006" b="-8541"/>
          <a:stretch/>
        </p:blipFill>
        <p:spPr>
          <a:xfrm>
            <a:off x="990720" y="5562720"/>
            <a:ext cx="121896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819520" y="5526000"/>
            <a:ext cx="1218960" cy="274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590920" y="5867280"/>
            <a:ext cx="1523880" cy="254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05120" y="2362320"/>
            <a:ext cx="3808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D3E-EFEA-4460-A190-49CF3F53DF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Playing with intrinsic kt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n id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72000" cy="4467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11320" y="2467080"/>
            <a:ext cx="12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 kt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Au kt=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eAu kt=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eAu kt=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</a:rPr>
              <a:t>eAu kt=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51880" y="152388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 parton shower, no fragmentation pt, only PG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41B-626E-429A-8E9E-C3421B337F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laying with intrinsic 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6005520" cy="4322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559240" cy="179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90720" y="2286000"/>
            <a:ext cx="38088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886200"/>
            <a:ext cx="2851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ouble gauss fit of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n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ide pea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 Near side doesn’t change for different k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278-E18B-43A1-BA58-4E405E7202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laying with intrinsic 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6005520" cy="4322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559240" cy="1793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905120" y="1676520"/>
            <a:ext cx="6858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886200"/>
            <a:ext cx="2851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ouble gauss fit of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away side pea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 Strongly dependent on intrinsic k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040200" y="2057400"/>
            <a:ext cx="5951520" cy="43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016-70CC-40B0-81C0-4D4EA7B798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with saturation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701720"/>
            <a:ext cx="3629160" cy="2260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42840" y="4267080"/>
            <a:ext cx="3629160" cy="2251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772160" y="4267080"/>
            <a:ext cx="3609720" cy="22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6040" y="2209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6400" y="48150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8720" y="4800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8280" y="1828800"/>
            <a:ext cx="176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)~(0.4,0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92840" y="2286000"/>
            <a:ext cx="349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)~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)~(1.37,2.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96080" y="2757600"/>
            <a:ext cx="361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)~19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)~(2.33,3.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029-5EEA-4679-B875-E20CF723BA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14400" y="1467000"/>
            <a:ext cx="7219800" cy="5391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with saturation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4059360" cy="290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130720" y="2514600"/>
            <a:ext cx="4013280" cy="290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93960" y="4114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09840" y="4191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620-0297-4D75-86FF-15DB19E6C4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with saturation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32280" y="4257720"/>
            <a:ext cx="347364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41240" y="1663560"/>
            <a:ext cx="3602160" cy="2451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899080" y="2286000"/>
            <a:ext cx="1180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0.2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p)~0.7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86720" y="4648320"/>
            <a:ext cx="20948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1.2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u)~2.4x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p)~1.68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981080"/>
            <a:ext cx="3657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Au)=6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)  vs 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Au)=2.4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rinsic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cale is quite different from the saturation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~Q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not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63560" y="4248000"/>
            <a:ext cx="3427560" cy="2457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853000" y="4648320"/>
            <a:ext cx="2102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0.8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Ca)~1.84x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p)~1.3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3E8-782F-4753-8DFE-D1C8363C060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Double scattering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ang-Vitev-Xing, PRD, 1112.6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ing-Kang-Vitev-Wang, 1206.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4267080" cy="1989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2278080"/>
            <a:ext cx="4114800" cy="17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B69-75EA-455B-8ACB-95191D5136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uble scattering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33920" cy="111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4800600" cy="824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200400" cy="861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4724280" cy="595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343400" y="3200400"/>
            <a:ext cx="16002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3200400"/>
            <a:ext cx="609480" cy="38088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581280"/>
            <a:ext cx="1295640" cy="609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35812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4191120"/>
            <a:ext cx="4800600" cy="68580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4191120"/>
            <a:ext cx="35053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3581280"/>
            <a:ext cx="2286000" cy="3049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267080"/>
            <a:ext cx="762120" cy="45720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4038480"/>
            <a:ext cx="685800" cy="9907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051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eAu,  only PGF and QCDC channels are conside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51055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209680" y="5486400"/>
            <a:ext cx="4381560" cy="495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209680" y="5486400"/>
            <a:ext cx="457200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1295280" y="6172200"/>
            <a:ext cx="6363000" cy="485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6324480" y="2514600"/>
            <a:ext cx="1524240" cy="284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6172200" y="2819520"/>
            <a:ext cx="2076480" cy="28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8F6-5D4A-40A1-ABD5-DB156BB49E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uble scattering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733920" cy="1116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427280" y="19810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urely PGF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895480" cy="584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057400" y="3429000"/>
            <a:ext cx="3135240" cy="2219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105520" y="3429000"/>
            <a:ext cx="3676680" cy="2971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04920" y="5715000"/>
            <a:ext cx="2057400" cy="276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304920" y="6019920"/>
            <a:ext cx="1981080" cy="266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304920" y="6324480"/>
            <a:ext cx="1981080" cy="29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439360" y="6019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94640" y="5867280"/>
            <a:ext cx="153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p)=0.2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Ca)=0.83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Au)=1.16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2743200" y="6095880"/>
            <a:ext cx="1162080" cy="181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887280" y="6019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6019920"/>
            <a:ext cx="15264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5240" y="65833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 in 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6248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2895480"/>
            <a:ext cx="38124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911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36232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38095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62320" y="3809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828800" y="3429000"/>
            <a:ext cx="3344760" cy="2286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301120" y="3733920"/>
            <a:ext cx="148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(A)=k(A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k=0.4,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=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39625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20" y="388620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qual CGC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209680"/>
            <a:ext cx="25909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CB1-C786-4EF8-BFE7-7E65D5BB49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322360" cy="2241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3581280"/>
            <a:ext cx="533520" cy="3812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3124080"/>
            <a:ext cx="533520" cy="3812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4800" y="213336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962520"/>
            <a:ext cx="20574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9880"/>
            <a:ext cx="533520" cy="3812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520" y="4303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71080" y="1828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9480" y="838080"/>
            <a:ext cx="1654200" cy="12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777-3446-4670-8528-C1CEC6509E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ison of two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2720" y="1523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99600" y="15238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13716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520" y="213372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0760" y="335268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86720" y="21337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91080" y="1905120"/>
            <a:ext cx="3105000" cy="981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267000" cy="1095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68440" y="32767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i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3019680" cy="609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2771640" cy="7142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066680" y="3200400"/>
            <a:ext cx="3429000" cy="685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990720" y="5514840"/>
            <a:ext cx="3504960" cy="733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447920" y="19051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31240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4724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2600" y="4844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5029200" y="5257800"/>
            <a:ext cx="2057400" cy="276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833480" y="495000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hadron 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45800" y="49528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 im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07760" y="4890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19560" y="5638680"/>
            <a:ext cx="21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input from the proton, flexible structure can be fit into different proton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EE4-5929-4877-AEF2-8B2533F9C32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ntrinsic kt and parton shower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n the r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800440" y="2286000"/>
            <a:ext cx="6191280" cy="4429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521320" y="3048120"/>
            <a:ext cx="8269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=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42120" y="182880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th parton shower, no fragmentation 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760" y="3182760"/>
            <a:ext cx="27147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on shower washes out the effect of intrinsic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?  Need a consistent description of the parton shower and intrinsic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408-5DFC-4460-9D44-4B71979554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contribution from nuclear PDF is very small compared to CGC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can build a connection between two models with a sophisticated intrinsic k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nergy loss is not so significant in such an observ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rton shower needs to be reshaped when it comes to a realistic gen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2A7-8C47-4089-B088-46133C7771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3657600"/>
            <a:ext cx="761760" cy="762120"/>
          </a:xfrm>
          <a:prstGeom prst="parallelogram">
            <a:avLst>
              <a:gd name="adj" fmla="val 72292"/>
            </a:avLst>
          </a:prstGeom>
          <a:blipFill rotWithShape="0">
            <a:blip r:embed="rId2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371600" y="4343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3"/>
          <a:srcRect l="0" t="0" r="53744" b="0"/>
          <a:stretch/>
        </p:blipFill>
        <p:spPr>
          <a:xfrm>
            <a:off x="4572000" y="1447920"/>
            <a:ext cx="2714760" cy="2392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238880" y="1905120"/>
            <a:ext cx="15242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=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2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GeV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4"/>
          <a:srcRect l="48977" t="0" r="0" b="0"/>
          <a:stretch/>
        </p:blipFill>
        <p:spPr>
          <a:xfrm>
            <a:off x="4627440" y="4102200"/>
            <a:ext cx="2687760" cy="2146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3117600" cy="221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26520" y="43797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9480" y="838080"/>
            <a:ext cx="1654200" cy="12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4C4-F590-45A1-A7BC-1D6BE172DA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V="1">
            <a:off x="38862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3123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Our Monte Carlo approach for the eA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657600" cy="336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962520"/>
            <a:ext cx="1676520" cy="1752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3657600" cy="2133360"/>
          </a:xfrm>
          <a:prstGeom prst="rect">
            <a:avLst/>
          </a:prstGeom>
          <a:noFill/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2590920"/>
            <a:ext cx="304920" cy="304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429000"/>
            <a:ext cx="304920" cy="3049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76720" y="2133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2096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29000" y="2514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09880" y="29718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152244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 hybrid model consisting of DPMJet and PYTHIA with nPDF EPS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886200" y="4419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800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5105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962520"/>
            <a:ext cx="1752840" cy="1752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438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Nuclear geometry by DPMJet and nPDF provided by EPS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352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Arial"/>
              </a:rPr>
              <a:t>Parton level interaction and jet fragmentation completed in PYTH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91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Nuclear evaporation ( gamma dexcitation/nuclear fission/fermi break up ) treated by DPM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76520"/>
            <a:ext cx="2057400" cy="2133360"/>
          </a:xfrm>
          <a:prstGeom prst="rect">
            <a:avLst/>
          </a:prstGeom>
          <a:noFill/>
          <a:ln w="1260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5102280"/>
            <a:ext cx="382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00"/>
                </a:solidFill>
                <a:latin typeface="Arial"/>
              </a:rPr>
              <a:t>Energy loss effect from  routine by Salgado&amp;Wiedemann to simulate the nuclear fragmentation effect in cold nuclear ma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471-3EE9-43B1-9FC7-025D9422E4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ematics b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8800" y="2133720"/>
            <a:ext cx="6068880" cy="43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0" y="297180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&lt;Q2&lt;1.5, 3.5&lt;Q2&lt;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5&lt;y&lt;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00" y="469260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&lt;Q2&lt;1.5, 3.5&lt;Q2&lt;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&lt;y&lt;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1D7-3BA9-498F-A1A7-506C9104FD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ematics b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2176560"/>
            <a:ext cx="6068880" cy="4376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0" y="29718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5&lt;Q2&lt;10.5, 19.5&lt;Q2&lt;2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5&lt;y&lt;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20" y="46926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5&lt;Q2&lt;10.5, 19.5&lt;Q2&lt;2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&lt;y&lt;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295-7A12-4C93-BF05-5B958FD280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1080" y="960480"/>
            <a:ext cx="4314600" cy="2925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73920" y="2666880"/>
            <a:ext cx="420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chi2=580.246 NDF=56 Prob=3.13384e-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3=0.162544 e3=0.00293428 (away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5=0.523957 e5=0.00681186 (away 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1080" y="3886200"/>
            <a:ext cx="4314600" cy="2925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74280" y="4495680"/>
            <a:ext cx="456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hi2=35.5971 NDF=26 Prob=0.09933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0=0.120179 e0=0.0110032 (peak like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2=0.32241 e2=0.0239366 (peak like 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3=0.0700998 e3=0.0120247 (base like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5=0.705258 e5=0.040013 (base like 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295280"/>
            <a:ext cx="1067040" cy="251460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648320"/>
            <a:ext cx="1067040" cy="1066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943600"/>
            <a:ext cx="1981440" cy="7621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6000" y="8380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+p y=0.7, Q2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2240" y="1981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auss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920" y="4052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auss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3392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7080" y="5791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7AD-459C-4A17-AAA7-9CC729F654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Sing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52560" y="137160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044-3768-446B-B61B-2C98BD69B9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1:10:28Z</dcterms:created>
  <dc:creator>liang</dc:creator>
  <dc:description/>
  <dc:language>en-US</dc:language>
  <cp:lastModifiedBy>liang</cp:lastModifiedBy>
  <dcterms:modified xsi:type="dcterms:W3CDTF">2012-09-06T17:16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